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DA7-D5FC-436F-97F8-5C4EDA38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846-B8AB-4024-8EDB-7ED5B37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3F-E02A-44AC-9CF7-5910DA35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999-E9E9-4923-BB13-34DDEBE0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387-EB81-478E-A2C9-CED8C81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025-228A-4726-B52B-A80DDEEC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154-106F-4D4E-A71D-CFF1DD7E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C8C-E261-4BEF-8308-10ECAE4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6CF-FB47-4ED6-ABEE-2255099E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621-05D9-4756-ADF1-20BC501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86F-1E49-4D5E-8EC0-5BC7495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29F-50A7-4EB6-B378-ED8ED513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505D-4578-4700-B9A9-456A1BD4A5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able 3" descr=""/>
          <p:cNvPicPr/>
          <p:nvPr/>
        </p:nvPicPr>
        <p:blipFill>
          <a:blip r:embed="rId1"/>
          <a:stretch/>
        </p:blipFill>
        <p:spPr>
          <a:xfrm>
            <a:off x="182520" y="560520"/>
            <a:ext cx="6492960" cy="9216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365720" y="10800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istorian : 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15920" y="572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story Detective   –   Evidence 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able 3" descr=""/>
          <p:cNvPicPr/>
          <p:nvPr/>
        </p:nvPicPr>
        <p:blipFill>
          <a:blip r:embed="rId1"/>
          <a:stretch/>
        </p:blipFill>
        <p:spPr>
          <a:xfrm>
            <a:off x="268200" y="622440"/>
            <a:ext cx="6327720" cy="908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687240" y="6897600"/>
            <a:ext cx="3900240" cy="3008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365720" y="1951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istorian : 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15920" y="1191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story Detective   –   Evidence Shee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le 3" descr=""/>
          <p:cNvPicPr/>
          <p:nvPr/>
        </p:nvPicPr>
        <p:blipFill>
          <a:blip r:embed="rId1"/>
          <a:stretch/>
        </p:blipFill>
        <p:spPr>
          <a:xfrm>
            <a:off x="182520" y="652320"/>
            <a:ext cx="6327720" cy="908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456080" y="181080"/>
            <a:ext cx="32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istorian : 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15920" y="1191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story Detective   –   Evidence 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141720" y="6702480"/>
            <a:ext cx="39006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able 3" descr=""/>
          <p:cNvPicPr/>
          <p:nvPr/>
        </p:nvPicPr>
        <p:blipFill>
          <a:blip r:embed="rId1"/>
          <a:stretch/>
        </p:blipFill>
        <p:spPr>
          <a:xfrm>
            <a:off x="182520" y="743040"/>
            <a:ext cx="6492960" cy="887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365720" y="1951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istorian : 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5920" y="1191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story Detective   –   Evidence 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able 3" descr=""/>
          <p:cNvPicPr/>
          <p:nvPr/>
        </p:nvPicPr>
        <p:blipFill>
          <a:blip r:embed="rId1"/>
          <a:stretch/>
        </p:blipFill>
        <p:spPr>
          <a:xfrm>
            <a:off x="255600" y="615960"/>
            <a:ext cx="6327720" cy="9186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365720" y="1951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istorian : 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15920" y="1191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story Detective   –   Evidence Shee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18:35:16Z</dcterms:created>
  <dc:creator/>
  <dc:description/>
  <dc:language>en-US</dc:language>
  <cp:lastModifiedBy/>
  <dcterms:modified xsi:type="dcterms:W3CDTF">2016-01-04T19:31:12Z</dcterms:modified>
  <cp:revision>1</cp:revision>
  <dc:subject/>
  <dc:title/>
</cp:coreProperties>
</file>