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8E30-AE41-4335-AEA9-B00905D9AB7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7E48-C79F-4A51-AF2A-9CCC94AFDB8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0103C-B3AC-4BCB-A210-EC13D0A48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52696-4AE1-4C42-890F-DDA178E73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CB557-DE3F-4B74-97DC-58E422CDB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05F71-28A2-4240-929C-8F61F3EB3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5C5B5-5E25-4380-870B-CEE000200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A415E-8E9F-4A84-968C-12CB6E06D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E6472-D27F-48AF-BE77-FA6BF8C3A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EB878-9C74-4450-8013-35107223B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6D078-EADC-4714-ADD7-7C86DE933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B9671-1A39-4C79-8B60-12E9EBF5A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B5EA1-3176-42AE-A0FF-4B565C1B0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DDCC6-FC1E-4FE0-B642-3F6417410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307D-20CB-438F-AE58-C2B05CD1894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rot="290400">
            <a:off x="4196880" y="791640"/>
            <a:ext cx="4680000" cy="3959280"/>
          </a:xfrm>
          <a:prstGeom prst="rect">
            <a:avLst/>
          </a:prstGeom>
          <a:ln w="0">
            <a:noFill/>
          </a:ln>
        </p:spPr>
      </p:pic>
      <p:sp>
        <p:nvSpPr>
          <p:cNvPr id="49" name="Rectangle 2"/>
          <p:cNvSpPr/>
          <p:nvPr/>
        </p:nvSpPr>
        <p:spPr>
          <a:xfrm>
            <a:off x="108000" y="1052640"/>
            <a:ext cx="4075200" cy="64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askerville Old Face"/>
                <a:ea typeface="Times New Roman"/>
              </a:rPr>
              <a:t> </a:t>
            </a:r>
            <a:r>
              <a:rPr b="0" lang="en-GB" sz="2400" spc="-1" strike="noStrike">
                <a:solidFill>
                  <a:srgbClr val="000000"/>
                </a:solidFill>
                <a:latin typeface="Baskerville Old Face"/>
                <a:ea typeface="Times New Roman"/>
              </a:rPr>
              <a:t>CASE XVII</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Baskerville Old Face"/>
                <a:ea typeface="Times New Roman"/>
              </a:rPr>
              <a:t>The more accurately to observe the progress of the infection I selected a healthy boy, about eight years old, for the purpose of inoculation for the cowpox. The matter was taken from a sore on the hand of a dairymaid,  who was infected by her master’s cows, and it was inserted, on the 14th of May, 1796, into the arm of the boy by means of two superficial incisions, barely penetrating the cutis, each about half an inch long.</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Baskerville Old Face"/>
                <a:ea typeface="Times New Roman"/>
              </a:rPr>
              <a:t>On the seventh day he complained of uneasiness in the axilla, and on the ninth he became a little chilly, lost his appetite, and had a slight headache. During the whole of this day he was perceptibly indisposed, and spent the night with some degree of restlessness, but on the day following he was perfectly well.</a:t>
            </a:r>
            <a:endParaRPr b="0" lang="en-US" sz="1700" spc="-1" strike="noStrike">
              <a:solidFill>
                <a:srgbClr val="000000"/>
              </a:solidFill>
              <a:latin typeface="Calibri"/>
            </a:endParaRPr>
          </a:p>
        </p:txBody>
      </p:sp>
      <p:sp>
        <p:nvSpPr>
          <p:cNvPr id="50" name="TextBox 7"/>
          <p:cNvSpPr/>
          <p:nvPr/>
        </p:nvSpPr>
        <p:spPr>
          <a:xfrm>
            <a:off x="179280" y="260280"/>
            <a:ext cx="8383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Baskerville Old Face"/>
              </a:rPr>
              <a:t>Extract from Jenner’s publication of his experiment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51" name=""/>
          <p:cNvGraphicFramePr/>
          <p:nvPr/>
        </p:nvGraphicFramePr>
        <p:xfrm>
          <a:off x="4255920" y="4869000"/>
          <a:ext cx="4635720" cy="1662120"/>
        </p:xfrm>
        <a:graphic>
          <a:graphicData uri="http://schemas.openxmlformats.org/drawingml/2006/table">
            <a:tbl>
              <a:tblPr/>
              <a:tblGrid>
                <a:gridCol w="2237040"/>
                <a:gridCol w="2398680"/>
              </a:tblGrid>
              <a:tr h="871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Baskerville Old Face"/>
                        </a:rPr>
                        <a:t>inoculation for the </a:t>
                      </a:r>
                      <a:br>
                        <a:rPr sz="1700"/>
                      </a:br>
                      <a:r>
                        <a:rPr b="1" lang="en-GB" sz="1700" spc="-1" strike="noStrike">
                          <a:solidFill>
                            <a:srgbClr val="000000"/>
                          </a:solidFill>
                          <a:latin typeface="Baskerville Old Face"/>
                        </a:rPr>
                        <a:t>cowpox</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vaccination using </a:t>
                      </a:r>
                      <a:br>
                        <a:rPr sz="1700"/>
                      </a:br>
                      <a:r>
                        <a:rPr b="0" lang="en-GB" sz="1700" spc="-1" strike="noStrike">
                          <a:solidFill>
                            <a:srgbClr val="000000"/>
                          </a:solidFill>
                          <a:latin typeface="Calibri"/>
                        </a:rPr>
                        <a:t> cowpox</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r>
              <a:tr h="3531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Baskerville Old Face"/>
                        </a:rPr>
                        <a:t>cutis</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skin</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r>
              <a:tr h="3531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Baskerville Old Face"/>
                        </a:rPr>
                        <a:t>axilla</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rmpits</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r>
              <a:tr h="6123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Baskerville Old Face"/>
                        </a:rPr>
                        <a:t>perceptibly  indisposed</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visibly unwell</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5"/>
          <p:cNvSpPr/>
          <p:nvPr/>
        </p:nvSpPr>
        <p:spPr>
          <a:xfrm>
            <a:off x="3995640" y="404640"/>
            <a:ext cx="4896000" cy="42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Baskerville Old Face"/>
                <a:ea typeface="Times New Roman"/>
              </a:rPr>
              <a:t>In order to ascertain whether the boy, after feeling so slight an affection of the system from the cowpox virus, was secure from the contagion of the smallpox, he was inoculated the 1st of July following with variolous matter, immediately taken from a pustule. Several slight punctures and incisions were made on both his arms, and the matter was carefully inserted, but no disease followed. The same appearances were observable on the arms as we commonly see when a patient has had variolous matter applied, after having either the cowpox or smallpox. Several months afterwards he was again inoculated with variolous matter, but no sensible effect was produced on the constitution.</a:t>
            </a:r>
            <a:endParaRPr b="0" lang="en-US" sz="1700" spc="-1" strike="noStrike">
              <a:solidFill>
                <a:srgbClr val="000000"/>
              </a:solidFill>
              <a:latin typeface="Calibri"/>
            </a:endParaRPr>
          </a:p>
        </p:txBody>
      </p:sp>
      <p:pic>
        <p:nvPicPr>
          <p:cNvPr id="53" name="Picture 8" descr=""/>
          <p:cNvPicPr/>
          <p:nvPr/>
        </p:nvPicPr>
        <p:blipFill>
          <a:blip r:embed="rId1"/>
          <a:stretch/>
        </p:blipFill>
        <p:spPr>
          <a:xfrm>
            <a:off x="17640" y="-603360"/>
            <a:ext cx="4562280" cy="7461360"/>
          </a:xfrm>
          <a:prstGeom prst="rect">
            <a:avLst/>
          </a:prstGeom>
          <a:ln w="0">
            <a:noFill/>
          </a:ln>
        </p:spPr>
      </p:pic>
      <p:graphicFrame>
        <p:nvGraphicFramePr>
          <p:cNvPr id="54" name=""/>
          <p:cNvGraphicFramePr/>
          <p:nvPr/>
        </p:nvGraphicFramePr>
        <p:xfrm>
          <a:off x="4197240" y="4365720"/>
          <a:ext cx="4694400" cy="2270160"/>
        </p:xfrm>
        <a:graphic>
          <a:graphicData uri="http://schemas.openxmlformats.org/drawingml/2006/table">
            <a:tbl>
              <a:tblPr/>
              <a:tblGrid>
                <a:gridCol w="2266920"/>
                <a:gridCol w="2427480"/>
              </a:tblGrid>
              <a:tr h="6123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Baskerville Old Face"/>
                        </a:rPr>
                        <a:t>affection of the system </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r>
                        <a:rPr b="0" lang="en-GB" sz="1700" spc="-1" strike="noStrike">
                          <a:solidFill>
                            <a:srgbClr val="000000"/>
                          </a:solidFill>
                          <a:latin typeface="Calibri"/>
                        </a:rPr>
                        <a:t>illness</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r>
              <a:tr h="3531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Baskerville Old Face"/>
                        </a:rPr>
                        <a:t>variolous matter</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r>
                        <a:rPr b="0" lang="en-GB" sz="1700" spc="-1" strike="noStrike">
                          <a:solidFill>
                            <a:srgbClr val="000000"/>
                          </a:solidFill>
                          <a:latin typeface="Calibri"/>
                        </a:rPr>
                        <a:t>smallpox matter</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r>
              <a:tr h="8715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Baskerville Old Face"/>
                        </a:rPr>
                        <a:t>inoculated with variolous matter</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r>
                        <a:rPr b="0" lang="en-GB" sz="1700" spc="-1" strike="noStrike">
                          <a:solidFill>
                            <a:srgbClr val="000000"/>
                          </a:solidFill>
                          <a:latin typeface="Calibri"/>
                        </a:rPr>
                        <a:t>tested by putting   </a:t>
                      </a:r>
                      <a:br>
                        <a:rPr sz="1700"/>
                      </a:br>
                      <a:r>
                        <a:rPr b="0" lang="en-GB" sz="1700" spc="-1" strike="noStrike">
                          <a:solidFill>
                            <a:srgbClr val="000000"/>
                          </a:solidFill>
                          <a:latin typeface="Calibri"/>
                        </a:rPr>
                        <a:t> smallpox pus in his </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r>
                        <a:rPr b="0" lang="en-GB" sz="1700" spc="-1" strike="noStrike">
                          <a:solidFill>
                            <a:srgbClr val="000000"/>
                          </a:solidFill>
                          <a:latin typeface="Calibri"/>
                        </a:rPr>
                        <a:t>arm</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r>
              <a:tr h="3531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Baskerville Old Face"/>
                        </a:rPr>
                        <a:t>sensible effect</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r>
                        <a:rPr b="0" lang="en-GB" sz="1700" spc="-1" strike="noStrike">
                          <a:solidFill>
                            <a:srgbClr val="000000"/>
                          </a:solidFill>
                          <a:latin typeface="Calibri"/>
                        </a:rPr>
                        <a:t>noticeable effect</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r>
              <a:tr h="3531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Baskerville Old Face"/>
                        </a:rPr>
                        <a:t>the constitution</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r>
                        <a:rPr b="0" lang="en-GB" sz="1700" spc="-1" strike="noStrike">
                          <a:solidFill>
                            <a:srgbClr val="000000"/>
                          </a:solidFill>
                          <a:latin typeface="Calibri"/>
                        </a:rPr>
                        <a:t>his health</a:t>
                      </a:r>
                      <a:endParaRPr b="0" lang="en-US" sz="17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179280" y="1378080"/>
            <a:ext cx="4464000" cy="5807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Baskerville Old Face"/>
                <a:ea typeface="Times New Roman"/>
              </a:rPr>
              <a:t>A boy by the name of Phipps was inoculated in the arm from a Pustule on the hand of a young Woman who was infected by her Masters Cows. Having never seen the disease but in its casual way before, that is, when communicated from the Cow to the hand of the Milker, I was astonished at the close resemblance of the Pustules in some of their stages to the variolous Pustules. But now listen to the most delightful part of my Story. The Boy has since been inoculated for the small pox which as I ventured to predict produced no effect.</a:t>
            </a:r>
            <a:endParaRPr b="0" lang="en-US" sz="1900" spc="-1" strike="noStrike">
              <a:solidFill>
                <a:srgbClr val="000000"/>
              </a:solidFill>
              <a:latin typeface="Calibri"/>
            </a:endParaRPr>
          </a:p>
        </p:txBody>
      </p:sp>
      <p:sp>
        <p:nvSpPr>
          <p:cNvPr id="56" name="TextBox 8"/>
          <p:cNvSpPr/>
          <p:nvPr/>
        </p:nvSpPr>
        <p:spPr>
          <a:xfrm>
            <a:off x="287280" y="74520"/>
            <a:ext cx="8383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Baskerville Old Face"/>
              </a:rPr>
              <a:t>A letter from Dr Jenner </a:t>
            </a:r>
            <a:br>
              <a:rPr sz="2800"/>
            </a:br>
            <a:r>
              <a:rPr b="1" lang="en-GB" sz="2800" spc="-1" strike="noStrike">
                <a:solidFill>
                  <a:srgbClr val="c00000"/>
                </a:solidFill>
                <a:latin typeface="Baskerville Old Face"/>
              </a:rPr>
              <a:t>to a friend</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57" name=""/>
          <p:cNvGraphicFramePr/>
          <p:nvPr/>
        </p:nvGraphicFramePr>
        <p:xfrm>
          <a:off x="4873680" y="404640"/>
          <a:ext cx="3849480" cy="2651400"/>
        </p:xfrm>
        <a:graphic>
          <a:graphicData uri="http://schemas.openxmlformats.org/drawingml/2006/table">
            <a:tbl>
              <a:tblPr/>
              <a:tblGrid>
                <a:gridCol w="1746360"/>
                <a:gridCol w="2103120"/>
              </a:tblGrid>
              <a:tr h="337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askerville Old Face"/>
                        </a:rPr>
                        <a:t>inoculated</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vaccinated</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r>
              <a:tr h="824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askerville Old Face"/>
                          <a:ea typeface="Times New Roman"/>
                        </a:rPr>
                        <a:t>causal way</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usual way, i.e. caught from milking infected cows</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r>
              <a:tr h="5806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askerville Old Face"/>
                          <a:ea typeface="Times New Roman"/>
                        </a:rPr>
                        <a:t>communicated from</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passed on from</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r>
              <a:tr h="5806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askerville Old Face"/>
                          <a:ea typeface="Times New Roman"/>
                        </a:rPr>
                        <a:t>variolous pustules</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smallpox pustules</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r>
              <a:tr h="8240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askerville Old Face"/>
                        </a:rPr>
                        <a:t>inoculated for the smallpox</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ested by putting  smallpox pus in his arm</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7e4bd"/>
                    </a:solidFill>
                  </a:tcPr>
                </a:tc>
              </a:tr>
            </a:tbl>
          </a:graphicData>
        </a:graphic>
      </p:graphicFrame>
      <p:pic>
        <p:nvPicPr>
          <p:cNvPr id="58" name="Picture 11" descr=""/>
          <p:cNvPicPr/>
          <p:nvPr/>
        </p:nvPicPr>
        <p:blipFill>
          <a:blip r:embed="rId2"/>
          <a:stretch/>
        </p:blipFill>
        <p:spPr>
          <a:xfrm>
            <a:off x="4114800" y="3498840"/>
            <a:ext cx="4705200" cy="32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225360" y="189000"/>
            <a:ext cx="4059360" cy="605556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Questions on Dr Jenner’s publicatio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n what date did Dr Jenner vaccinate James with cowpox? How many times did he insert cowpox pus into his arm?</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long did it take James to start to feel ill from the cowpox vaccinatio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djective does Dr Jenner use to describe James’s “affliction” (illness) from the cowpox? Notice how when you quote the exact words someone said, you put them in quotation marks (speech marks).</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Dr Jenner put smallpox pus in James’s arms in order to test whether cowpox had given him immunity  to smallpox. What word does Dr Jenner use instead of ‘immune’?</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Did Dr Jenner repeat the experiment on James? If so, whe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0" name="Rectangle 1"/>
          <p:cNvSpPr/>
          <p:nvPr/>
        </p:nvSpPr>
        <p:spPr>
          <a:xfrm>
            <a:off x="4641840" y="189000"/>
            <a:ext cx="4314960" cy="372276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Questions on Dr Jenner’s letter</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Dr Jenner says he is “astonished” by how much the cowpox pustules on James’s arm resemble smallpox pustules. Can you think how this might help explain </a:t>
            </a:r>
            <a:r>
              <a:rPr b="1" i="1" lang="en-GB" sz="1700" spc="-1" strike="noStrike">
                <a:solidFill>
                  <a:srgbClr val="000000"/>
                </a:solidFill>
                <a:latin typeface="Calibri"/>
              </a:rPr>
              <a:t>why</a:t>
            </a:r>
            <a:r>
              <a:rPr b="0" lang="en-GB" sz="1700" spc="-1" strike="noStrike">
                <a:solidFill>
                  <a:srgbClr val="000000"/>
                </a:solidFill>
                <a:latin typeface="Calibri"/>
              </a:rPr>
              <a:t> cowpox protects people from smallpox?</a:t>
            </a:r>
            <a:br>
              <a:rPr sz="1700"/>
            </a:b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oes he say he correctly predicted?  Why did he predict this?</a:t>
            </a:r>
            <a:br>
              <a:rPr sz="1700"/>
            </a:b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does he call this “the most delightful part of my Story”?</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61" name="Picture 2" descr=""/>
          <p:cNvPicPr/>
          <p:nvPr/>
        </p:nvPicPr>
        <p:blipFill>
          <a:blip r:embed="rId1"/>
          <a:stretch/>
        </p:blipFill>
        <p:spPr>
          <a:xfrm flipH="1" rot="21006600">
            <a:off x="4822560" y="4691160"/>
            <a:ext cx="4203720" cy="147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225360" y="765000"/>
            <a:ext cx="4059360" cy="569124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Questions on Dr Jenner’s public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n what date did Dr Jenner vaccinate James with cowpox? How many times did he insert cowpox pus into his arm?</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0000"/>
                </a:solidFill>
                <a:latin typeface="Calibri"/>
              </a:rPr>
              <a:t>14</a:t>
            </a:r>
            <a:r>
              <a:rPr b="0" i="1" lang="en-GB" sz="1600" spc="-1" strike="noStrike" baseline="30000">
                <a:solidFill>
                  <a:srgbClr val="ff0000"/>
                </a:solidFill>
                <a:latin typeface="Calibri"/>
              </a:rPr>
              <a:t>th</a:t>
            </a:r>
            <a:r>
              <a:rPr b="0" i="1" lang="en-GB" sz="1600" spc="-1" strike="noStrike">
                <a:solidFill>
                  <a:srgbClr val="ff0000"/>
                </a:solidFill>
                <a:latin typeface="Calibri"/>
              </a:rPr>
              <a:t> May, 1796; twic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long did it take James to start to feel ill from the cowpox vaccin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0000"/>
                </a:solidFill>
                <a:latin typeface="Calibri"/>
              </a:rPr>
              <a:t>A week.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at adjective does Dr Jenner use to describe James’s “affliction” (illness) from the cowpox? Notice how when you quote the exact words someone said, you put them in quotation marks (speech mark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0000"/>
                </a:solidFill>
                <a:latin typeface="Calibri"/>
              </a:rPr>
              <a:t>“</a:t>
            </a:r>
            <a:r>
              <a:rPr b="0" i="1" lang="en-GB" sz="1600" spc="-1" strike="noStrike">
                <a:solidFill>
                  <a:srgbClr val="ff0000"/>
                </a:solidFill>
                <a:latin typeface="Calibri"/>
              </a:rPr>
              <a:t>Sligh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Jenner put smallpox pus in James’s arms in order to test whether cowpox had given him immunity  to smallpox. What word does Dr Jenner use instead of ‘immun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0000"/>
                </a:solidFill>
                <a:latin typeface="Calibri"/>
              </a:rPr>
              <a:t>“</a:t>
            </a:r>
            <a:r>
              <a:rPr b="0" i="1" lang="en-GB" sz="1600" spc="-1" strike="noStrike">
                <a:solidFill>
                  <a:srgbClr val="ff0000"/>
                </a:solidFill>
                <a:latin typeface="Calibri"/>
              </a:rPr>
              <a:t>Secur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d Dr Jenner repeat the experiment on </a:t>
            </a:r>
            <a:r>
              <a:rPr b="0" i="1" lang="en-GB" sz="1600" spc="-1" strike="noStrike">
                <a:solidFill>
                  <a:srgbClr val="000000"/>
                </a:solidFill>
                <a:latin typeface="Calibri"/>
              </a:rPr>
              <a:t>James? If so, whe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0000"/>
                </a:solidFill>
                <a:latin typeface="Calibri"/>
              </a:rPr>
              <a:t>Yes: several months later.</a:t>
            </a:r>
            <a:endParaRPr b="0" lang="en-US" sz="1600" spc="-1" strike="noStrike">
              <a:solidFill>
                <a:srgbClr val="000000"/>
              </a:solidFill>
              <a:latin typeface="Calibri"/>
            </a:endParaRPr>
          </a:p>
        </p:txBody>
      </p:sp>
      <p:sp>
        <p:nvSpPr>
          <p:cNvPr id="63" name="Rectangle 1"/>
          <p:cNvSpPr/>
          <p:nvPr/>
        </p:nvSpPr>
        <p:spPr>
          <a:xfrm>
            <a:off x="4641840" y="739800"/>
            <a:ext cx="4314960" cy="593460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Questions on Dr Jenner’s lette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Jenner says he is “astonished” by how much the cowpox pustules on James’s arm resemble smallpox pustules. Can you think how this might help explain </a:t>
            </a:r>
            <a:r>
              <a:rPr b="1" i="1" lang="en-GB" sz="1600" spc="-1" strike="noStrike">
                <a:solidFill>
                  <a:srgbClr val="000000"/>
                </a:solidFill>
                <a:latin typeface="Calibri"/>
              </a:rPr>
              <a:t>why</a:t>
            </a:r>
            <a:r>
              <a:rPr b="0" lang="en-GB" sz="1600" spc="-1" strike="noStrike">
                <a:solidFill>
                  <a:srgbClr val="000000"/>
                </a:solidFill>
                <a:latin typeface="Calibri"/>
              </a:rPr>
              <a:t> cowpox protects people from smallpox?</a:t>
            </a:r>
            <a:br>
              <a:rPr sz="1600"/>
            </a:br>
            <a:r>
              <a:rPr b="0" i="1" lang="en-GB" sz="1600" spc="-1" strike="noStrike">
                <a:solidFill>
                  <a:srgbClr val="ff0000"/>
                </a:solidFill>
                <a:latin typeface="Calibri"/>
              </a:rPr>
              <a:t>It suggests that cowpox and smallpox might be </a:t>
            </a:r>
            <a:r>
              <a:rPr b="1" i="1" lang="en-GB" sz="1600" spc="-1" strike="noStrike">
                <a:solidFill>
                  <a:srgbClr val="ff0000"/>
                </a:solidFill>
                <a:latin typeface="Calibri"/>
              </a:rPr>
              <a:t>similar</a:t>
            </a:r>
            <a:r>
              <a:rPr b="0" i="1" lang="en-GB" sz="1600" spc="-1" strike="noStrike">
                <a:solidFill>
                  <a:srgbClr val="ff0000"/>
                </a:solidFill>
                <a:latin typeface="Calibri"/>
              </a:rPr>
              <a:t> diseases, which might explain why  immunity to cowpox also gives you immunity to smallpox</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at does he say he correctly predicted?  Why did he predict this?</a:t>
            </a:r>
            <a:br>
              <a:rPr sz="1600"/>
            </a:br>
            <a:r>
              <a:rPr b="0" i="1" lang="en-GB" sz="1600" spc="-1" strike="noStrike">
                <a:solidFill>
                  <a:srgbClr val="ff0000"/>
                </a:solidFill>
                <a:latin typeface="Calibri"/>
              </a:rPr>
              <a:t>That the smallpox pus would have “no effect” on James. He predicted this because he vaccinated James with cowpox and believes he has evidence that  cowpox infection protects you from smallpox.</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y does he call this “the most delightful part of my Stor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alibri"/>
              </a:rPr>
              <a:t>Because it means his experiment has worked and has shown that cowpox has protected James from smallpox. So Jenner has found a way to save the world from smallpox!</a:t>
            </a:r>
            <a:endParaRPr b="0" lang="en-US" sz="1600" spc="-1" strike="noStrike">
              <a:solidFill>
                <a:srgbClr val="000000"/>
              </a:solidFill>
              <a:latin typeface="Calibri"/>
            </a:endParaRPr>
          </a:p>
        </p:txBody>
      </p:sp>
      <p:sp>
        <p:nvSpPr>
          <p:cNvPr id="64" name="TextBox 3"/>
          <p:cNvSpPr/>
          <p:nvPr/>
        </p:nvSpPr>
        <p:spPr>
          <a:xfrm>
            <a:off x="287280" y="74520"/>
            <a:ext cx="838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askerville Old Face"/>
              </a:rPr>
              <a:t>Answ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1T18:35:35Z</dcterms:created>
  <dc:creator/>
  <dc:description/>
  <dc:language>en-US</dc:language>
  <cp:lastModifiedBy/>
  <dcterms:modified xsi:type="dcterms:W3CDTF">2016-01-04T19:30:16Z</dcterms:modified>
  <cp:revision>1</cp:revision>
  <dc:subject/>
  <dc:title/>
</cp:coreProperties>
</file>